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46888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066-46EA-47C2-A874-AAC39858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8A8-F6BD-42F5-AD2B-D3A02FFD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563-B103-4260-8487-05DD8968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0E4-6D4B-4B1E-831F-E009E981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5B1-A265-4D56-AA2E-C98B282D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6D8-903B-4474-9C40-5224BFE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FAA-4D4B-4DAC-BA90-1DB6EDEA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705-942C-4E2C-8CC6-E9C4DD5A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BFB-F454-49D5-B0C6-EF70D5FB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B2F-D8E4-4824-8F83-16DEBF0E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1ED-5823-47B1-A51A-BAD11E6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DA6-E501-42FD-906D-54D831A4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A6D8-E3AE-42FA-8ACC-0138779B265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448320"/>
            <a:ext cx="9144000" cy="409680"/>
            <a:chOff x="0" y="6448320"/>
            <a:chExt cx="9144000" cy="409680"/>
          </a:xfrm>
        </p:grpSpPr>
        <p:sp>
          <p:nvSpPr>
            <p:cNvPr id="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2"/>
            <a:srcRect l="0" t="0" r="0" b="75282"/>
            <a:stretch/>
          </p:blipFill>
          <p:spPr>
            <a:xfrm>
              <a:off x="0" y="6453360"/>
              <a:ext cx="262728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2627280" y="6448320"/>
              <a:ext cx="647640" cy="4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cvetolympics@yahoo.com.au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47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771640" y="333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mpic Games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SI/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263700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06064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2205000"/>
            <a:ext cx="381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lcom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dney Institute of T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lympic Games 2008 - 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Image Preview"/>
          <p:cNvPicPr/>
          <p:nvPr/>
        </p:nvPicPr>
        <p:blipFill>
          <a:blip r:embed="rId1"/>
          <a:srcRect l="11500" t="0" r="13087" b="0"/>
          <a:stretch/>
        </p:blipFill>
        <p:spPr>
          <a:xfrm>
            <a:off x="0" y="1413000"/>
            <a:ext cx="4608360" cy="4427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5877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Comic Sans MS"/>
              </a:rPr>
              <a:t>Paula Williams ( Presen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SI OTEN TAFE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224000" cy="77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7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664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udi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Menu to (envelope icon) select &lt;new messag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new voice message when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&lt;record&gt; (and complete trans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&lt;st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&lt;Send to&gt;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lect ‘New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mail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‘mb-blog2blog-bott2bmoblg.net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http://moblog.co.uk/blog/blog2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ever, for convenience this has been placed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hone contacts under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161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40000" y="54936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eb 2.0 Service – Moblog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03640" y="98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Voice 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55640" y="1989000"/>
            <a:ext cx="2160720" cy="3527640"/>
          </a:xfrm>
          <a:prstGeom prst="rect">
            <a:avLst/>
          </a:prstGeom>
          <a:solidFill>
            <a:srgbClr val="dad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Arial"/>
              </a:rPr>
              <a:t>Second way is - Videoblogging to a </a:t>
            </a: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mailbox accou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131640" y="2781360"/>
            <a:ext cx="273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Use the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le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utton to accept this i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84720" y="2349360"/>
            <a:ext cx="2160720" cy="1655640"/>
            <a:chOff x="6084720" y="2349360"/>
            <a:chExt cx="2160720" cy="1655640"/>
          </a:xfrm>
        </p:grpSpPr>
        <p:sp>
          <p:nvSpPr>
            <p:cNvPr id="174" name=""/>
            <p:cNvSpPr/>
            <p:nvPr/>
          </p:nvSpPr>
          <p:spPr>
            <a:xfrm>
              <a:off x="6084720" y="2456280"/>
              <a:ext cx="2160720" cy="1548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6891840" y="2976840"/>
              <a:ext cx="591120" cy="5058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84720" y="28839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35244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86760" y="2669400"/>
              <a:ext cx="99360" cy="54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9720" y="2669400"/>
              <a:ext cx="99360" cy="54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41200" y="2669400"/>
              <a:ext cx="99360" cy="54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93000" y="2669400"/>
              <a:ext cx="99360" cy="54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86760" y="3737880"/>
              <a:ext cx="99360" cy="5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89400" y="3737880"/>
              <a:ext cx="99360" cy="5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240" y="3737880"/>
              <a:ext cx="99360" cy="5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44120" y="3737880"/>
              <a:ext cx="99360" cy="5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35480" y="2349360"/>
              <a:ext cx="387720" cy="317520"/>
            </a:xfrm>
            <a:custGeom>
              <a:avLst/>
              <a:gdLst/>
              <a:ahLst/>
              <a:rect l="l" t="t" r="r" b="b"/>
              <a:pathLst>
                <a:path w="350" h="270">
                  <a:moveTo>
                    <a:pt x="167" y="155"/>
                  </a:moveTo>
                  <a:cubicBezTo>
                    <a:pt x="73" y="162"/>
                    <a:pt x="0" y="133"/>
                    <a:pt x="39" y="251"/>
                  </a:cubicBezTo>
                  <a:cubicBezTo>
                    <a:pt x="42" y="260"/>
                    <a:pt x="55" y="262"/>
                    <a:pt x="63" y="267"/>
                  </a:cubicBezTo>
                  <a:cubicBezTo>
                    <a:pt x="92" y="264"/>
                    <a:pt x="124" y="270"/>
                    <a:pt x="151" y="259"/>
                  </a:cubicBezTo>
                  <a:cubicBezTo>
                    <a:pt x="161" y="255"/>
                    <a:pt x="158" y="238"/>
                    <a:pt x="159" y="227"/>
                  </a:cubicBezTo>
                  <a:cubicBezTo>
                    <a:pt x="174" y="0"/>
                    <a:pt x="98" y="34"/>
                    <a:pt x="191" y="3"/>
                  </a:cubicBezTo>
                  <a:cubicBezTo>
                    <a:pt x="236" y="6"/>
                    <a:pt x="283" y="0"/>
                    <a:pt x="327" y="11"/>
                  </a:cubicBezTo>
                  <a:cubicBezTo>
                    <a:pt x="350" y="17"/>
                    <a:pt x="279" y="14"/>
                    <a:pt x="255" y="19"/>
                  </a:cubicBezTo>
                  <a:cubicBezTo>
                    <a:pt x="214" y="27"/>
                    <a:pt x="212" y="32"/>
                    <a:pt x="183" y="51"/>
                  </a:cubicBezTo>
                  <a:cubicBezTo>
                    <a:pt x="173" y="80"/>
                    <a:pt x="183" y="75"/>
                    <a:pt x="159" y="75"/>
                  </a:cubicBezTo>
                </a:path>
              </a:pathLst>
            </a:custGeom>
            <a:solidFill>
              <a:srgbClr val="85c8c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403280" y="3933720"/>
            <a:ext cx="865080" cy="71928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4149720"/>
            <a:ext cx="287280" cy="289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2276640"/>
            <a:ext cx="144000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492280"/>
            <a:ext cx="216000" cy="144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2421000"/>
            <a:ext cx="36036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2852640"/>
            <a:ext cx="14616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781360"/>
            <a:ext cx="216000" cy="287280"/>
          </a:xfrm>
          <a:prstGeom prst="bevel">
            <a:avLst>
              <a:gd name="adj" fmla="val 12500"/>
            </a:avLst>
          </a:prstGeom>
          <a:solidFill>
            <a:srgbClr val="6a90d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979640" y="2781360"/>
            <a:ext cx="503280" cy="287280"/>
            <a:chOff x="1979640" y="2781360"/>
            <a:chExt cx="503280" cy="287280"/>
          </a:xfrm>
        </p:grpSpPr>
        <p:sp>
          <p:nvSpPr>
            <p:cNvPr id="195" name=""/>
            <p:cNvSpPr/>
            <p:nvPr/>
          </p:nvSpPr>
          <p:spPr>
            <a:xfrm>
              <a:off x="1979640" y="2799720"/>
              <a:ext cx="503280" cy="268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2184840" y="2875320"/>
              <a:ext cx="102600" cy="1177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79640" y="287388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9640" y="2985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9840" y="2836800"/>
              <a:ext cx="230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78720" y="2836800"/>
              <a:ext cx="230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95720" y="2836800"/>
              <a:ext cx="230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00840" y="2836800"/>
              <a:ext cx="230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9840" y="3022200"/>
              <a:ext cx="230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0240" y="3022200"/>
              <a:ext cx="230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07240" y="3022200"/>
              <a:ext cx="230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2720" y="3022200"/>
              <a:ext cx="230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91520" y="2781360"/>
              <a:ext cx="90360" cy="55080"/>
            </a:xfrm>
            <a:custGeom>
              <a:avLst/>
              <a:gdLst/>
              <a:ahLst/>
              <a:rect l="l" t="t" r="r" b="b"/>
              <a:pathLst>
                <a:path w="350" h="270">
                  <a:moveTo>
                    <a:pt x="167" y="155"/>
                  </a:moveTo>
                  <a:cubicBezTo>
                    <a:pt x="73" y="162"/>
                    <a:pt x="0" y="133"/>
                    <a:pt x="39" y="251"/>
                  </a:cubicBezTo>
                  <a:cubicBezTo>
                    <a:pt x="42" y="260"/>
                    <a:pt x="55" y="262"/>
                    <a:pt x="63" y="267"/>
                  </a:cubicBezTo>
                  <a:cubicBezTo>
                    <a:pt x="92" y="264"/>
                    <a:pt x="124" y="270"/>
                    <a:pt x="151" y="259"/>
                  </a:cubicBezTo>
                  <a:cubicBezTo>
                    <a:pt x="161" y="255"/>
                    <a:pt x="158" y="238"/>
                    <a:pt x="159" y="227"/>
                  </a:cubicBezTo>
                  <a:cubicBezTo>
                    <a:pt x="174" y="0"/>
                    <a:pt x="98" y="34"/>
                    <a:pt x="191" y="3"/>
                  </a:cubicBezTo>
                  <a:cubicBezTo>
                    <a:pt x="236" y="6"/>
                    <a:pt x="283" y="0"/>
                    <a:pt x="327" y="11"/>
                  </a:cubicBezTo>
                  <a:cubicBezTo>
                    <a:pt x="350" y="17"/>
                    <a:pt x="279" y="14"/>
                    <a:pt x="255" y="19"/>
                  </a:cubicBezTo>
                  <a:cubicBezTo>
                    <a:pt x="214" y="27"/>
                    <a:pt x="212" y="32"/>
                    <a:pt x="183" y="51"/>
                  </a:cubicBezTo>
                  <a:cubicBezTo>
                    <a:pt x="173" y="80"/>
                    <a:pt x="183" y="75"/>
                    <a:pt x="159" y="75"/>
                  </a:cubicBezTo>
                </a:path>
              </a:pathLst>
            </a:custGeom>
            <a:solidFill>
              <a:srgbClr val="85c8c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19280" y="2852640"/>
            <a:ext cx="288720" cy="216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8955800">
            <a:off x="1619280" y="2781000"/>
            <a:ext cx="216000" cy="144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2781360"/>
            <a:ext cx="216000" cy="144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92360" y="3213000"/>
            <a:ext cx="287280" cy="289080"/>
            <a:chOff x="1692360" y="3213000"/>
            <a:chExt cx="287280" cy="289080"/>
          </a:xfrm>
        </p:grpSpPr>
        <p:sp>
          <p:nvSpPr>
            <p:cNvPr id="212" name=""/>
            <p:cNvSpPr/>
            <p:nvPr/>
          </p:nvSpPr>
          <p:spPr>
            <a:xfrm>
              <a:off x="1692360" y="3213000"/>
              <a:ext cx="287280" cy="289080"/>
            </a:xfrm>
            <a:prstGeom prst="ellipse">
              <a:avLst/>
            </a:prstGeom>
            <a:solidFill>
              <a:srgbClr val="6a90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82000" y="3246480"/>
              <a:ext cx="140400" cy="218880"/>
            </a:xfrm>
            <a:custGeom>
              <a:avLst/>
              <a:gdLst/>
              <a:ahLst/>
              <a:rect l="l" t="t" r="r" b="b"/>
              <a:pathLst>
                <a:path w="92" h="344">
                  <a:moveTo>
                    <a:pt x="12" y="0"/>
                  </a:moveTo>
                  <a:cubicBezTo>
                    <a:pt x="21" y="119"/>
                    <a:pt x="31" y="221"/>
                    <a:pt x="36" y="344"/>
                  </a:cubicBezTo>
                  <a:cubicBezTo>
                    <a:pt x="44" y="305"/>
                    <a:pt x="53" y="290"/>
                    <a:pt x="68" y="256"/>
                  </a:cubicBezTo>
                  <a:cubicBezTo>
                    <a:pt x="75" y="241"/>
                    <a:pt x="84" y="208"/>
                    <a:pt x="84" y="208"/>
                  </a:cubicBezTo>
                  <a:cubicBezTo>
                    <a:pt x="60" y="205"/>
                    <a:pt x="29" y="217"/>
                    <a:pt x="12" y="200"/>
                  </a:cubicBezTo>
                  <a:cubicBezTo>
                    <a:pt x="0" y="188"/>
                    <a:pt x="60" y="184"/>
                    <a:pt x="60" y="184"/>
                  </a:cubicBezTo>
                  <a:cubicBezTo>
                    <a:pt x="78" y="157"/>
                    <a:pt x="84" y="136"/>
                    <a:pt x="92" y="104"/>
                  </a:cubicBezTo>
                  <a:cubicBezTo>
                    <a:pt x="65" y="64"/>
                    <a:pt x="12" y="59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6a90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02440" y="3335760"/>
              <a:ext cx="121320" cy="9792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67" y="20"/>
                  </a:moveTo>
                  <a:cubicBezTo>
                    <a:pt x="60" y="18"/>
                    <a:pt x="10" y="0"/>
                    <a:pt x="3" y="20"/>
                  </a:cubicBezTo>
                  <a:cubicBezTo>
                    <a:pt x="0" y="29"/>
                    <a:pt x="18" y="33"/>
                    <a:pt x="27" y="36"/>
                  </a:cubicBezTo>
                  <a:cubicBezTo>
                    <a:pt x="40" y="41"/>
                    <a:pt x="54" y="41"/>
                    <a:pt x="67" y="44"/>
                  </a:cubicBezTo>
                  <a:cubicBezTo>
                    <a:pt x="88" y="75"/>
                    <a:pt x="88" y="88"/>
                    <a:pt x="51" y="100"/>
                  </a:cubicBezTo>
                  <a:cubicBezTo>
                    <a:pt x="48" y="108"/>
                    <a:pt x="48" y="117"/>
                    <a:pt x="43" y="124"/>
                  </a:cubicBezTo>
                  <a:cubicBezTo>
                    <a:pt x="23" y="148"/>
                    <a:pt x="0" y="134"/>
                    <a:pt x="43" y="148"/>
                  </a:cubicBezTo>
                  <a:cubicBezTo>
                    <a:pt x="96" y="137"/>
                    <a:pt x="83" y="154"/>
                    <a:pt x="83" y="1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87280" y="3141720"/>
            <a:ext cx="287640" cy="288360"/>
            <a:chOff x="1187280" y="3141720"/>
            <a:chExt cx="287640" cy="288360"/>
          </a:xfrm>
        </p:grpSpPr>
        <p:grpSp>
          <p:nvGrpSpPr>
            <p:cNvPr id="216" name=""/>
            <p:cNvGrpSpPr/>
            <p:nvPr/>
          </p:nvGrpSpPr>
          <p:grpSpPr>
            <a:xfrm>
              <a:off x="1230480" y="3223440"/>
              <a:ext cx="244440" cy="206640"/>
              <a:chOff x="1230480" y="3223440"/>
              <a:chExt cx="244440" cy="206640"/>
            </a:xfrm>
          </p:grpSpPr>
          <p:sp>
            <p:nvSpPr>
              <p:cNvPr id="217" name=""/>
              <p:cNvSpPr/>
              <p:nvPr/>
            </p:nvSpPr>
            <p:spPr>
              <a:xfrm>
                <a:off x="1230480" y="3223440"/>
                <a:ext cx="244440" cy="206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51800" y="3223440"/>
                <a:ext cx="0" cy="20664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1320" y="3361320"/>
                <a:ext cx="18324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187280" y="3141720"/>
              <a:ext cx="180720" cy="255240"/>
            </a:xfrm>
            <a:custGeom>
              <a:avLst/>
              <a:gdLst/>
              <a:ahLst/>
              <a:rect l="l" t="t" r="r" b="b"/>
              <a:pathLst>
                <a:path w="134" h="168">
                  <a:moveTo>
                    <a:pt x="0" y="168"/>
                  </a:moveTo>
                  <a:cubicBezTo>
                    <a:pt x="6" y="103"/>
                    <a:pt x="14" y="39"/>
                    <a:pt x="72" y="0"/>
                  </a:cubicBezTo>
                  <a:cubicBezTo>
                    <a:pt x="129" y="19"/>
                    <a:pt x="134" y="7"/>
                    <a:pt x="96" y="32"/>
                  </a:cubicBezTo>
                  <a:cubicBezTo>
                    <a:pt x="75" y="94"/>
                    <a:pt x="87" y="107"/>
                    <a:pt x="24" y="128"/>
                  </a:cubicBezTo>
                  <a:cubicBezTo>
                    <a:pt x="5" y="157"/>
                    <a:pt x="12" y="143"/>
                    <a:pt x="0" y="168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340000" y="3141720"/>
            <a:ext cx="131760" cy="369720"/>
          </a:xfrm>
          <a:custGeom>
            <a:avLst/>
            <a:gdLst/>
            <a:ahLst/>
            <a:rect l="l" t="t" r="r" b="b"/>
            <a:pathLst>
              <a:path w="109" h="276">
                <a:moveTo>
                  <a:pt x="40" y="181"/>
                </a:moveTo>
                <a:cubicBezTo>
                  <a:pt x="0" y="208"/>
                  <a:pt x="8" y="220"/>
                  <a:pt x="16" y="269"/>
                </a:cubicBezTo>
                <a:cubicBezTo>
                  <a:pt x="35" y="266"/>
                  <a:pt x="61" y="276"/>
                  <a:pt x="72" y="261"/>
                </a:cubicBezTo>
                <a:cubicBezTo>
                  <a:pt x="109" y="212"/>
                  <a:pt x="38" y="196"/>
                  <a:pt x="16" y="181"/>
                </a:cubicBezTo>
                <a:cubicBezTo>
                  <a:pt x="13" y="173"/>
                  <a:pt x="8" y="165"/>
                  <a:pt x="8" y="157"/>
                </a:cubicBezTo>
                <a:cubicBezTo>
                  <a:pt x="8" y="0"/>
                  <a:pt x="16" y="12"/>
                  <a:pt x="40" y="85"/>
                </a:cubicBezTo>
                <a:cubicBezTo>
                  <a:pt x="51" y="82"/>
                  <a:pt x="65" y="85"/>
                  <a:pt x="72" y="77"/>
                </a:cubicBezTo>
                <a:cubicBezTo>
                  <a:pt x="96" y="48"/>
                  <a:pt x="63" y="11"/>
                  <a:pt x="96" y="61"/>
                </a:cubicBezTo>
                <a:cubicBezTo>
                  <a:pt x="94" y="88"/>
                  <a:pt x="95" y="190"/>
                  <a:pt x="64" y="221"/>
                </a:cubicBezTo>
              </a:path>
            </a:pathLst>
          </a:custGeom>
          <a:solidFill>
            <a:srgbClr val="e1f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95640" y="3213000"/>
            <a:ext cx="144360" cy="286920"/>
            <a:chOff x="2195640" y="3213000"/>
            <a:chExt cx="144360" cy="286920"/>
          </a:xfrm>
        </p:grpSpPr>
        <p:sp>
          <p:nvSpPr>
            <p:cNvPr id="223" name=""/>
            <p:cNvSpPr/>
            <p:nvPr/>
          </p:nvSpPr>
          <p:spPr>
            <a:xfrm>
              <a:off x="2195640" y="3213000"/>
              <a:ext cx="144360" cy="18288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67" y="108"/>
                  </a:moveTo>
                  <a:cubicBezTo>
                    <a:pt x="59" y="113"/>
                    <a:pt x="52" y="126"/>
                    <a:pt x="43" y="124"/>
                  </a:cubicBezTo>
                  <a:cubicBezTo>
                    <a:pt x="23" y="119"/>
                    <a:pt x="41" y="81"/>
                    <a:pt x="43" y="76"/>
                  </a:cubicBezTo>
                  <a:cubicBezTo>
                    <a:pt x="40" y="63"/>
                    <a:pt x="43" y="47"/>
                    <a:pt x="35" y="36"/>
                  </a:cubicBezTo>
                  <a:cubicBezTo>
                    <a:pt x="11" y="0"/>
                    <a:pt x="0" y="61"/>
                    <a:pt x="19" y="4"/>
                  </a:cubicBezTo>
                  <a:cubicBezTo>
                    <a:pt x="108" y="13"/>
                    <a:pt x="114" y="1"/>
                    <a:pt x="75" y="60"/>
                  </a:cubicBezTo>
                  <a:cubicBezTo>
                    <a:pt x="67" y="153"/>
                    <a:pt x="87" y="162"/>
                    <a:pt x="27" y="132"/>
                  </a:cubicBezTo>
                </a:path>
              </a:pathLst>
            </a:custGeom>
            <a:solidFill>
              <a:srgbClr val="e1f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95640" y="3366360"/>
              <a:ext cx="103680" cy="133560"/>
            </a:xfrm>
            <a:custGeom>
              <a:avLst/>
              <a:gdLst/>
              <a:ahLst/>
              <a:rect l="l" t="t" r="r" b="b"/>
              <a:pathLst>
                <a:path w="82" h="118">
                  <a:moveTo>
                    <a:pt x="13" y="9"/>
                  </a:moveTo>
                  <a:cubicBezTo>
                    <a:pt x="32" y="12"/>
                    <a:pt x="61" y="0"/>
                    <a:pt x="69" y="17"/>
                  </a:cubicBezTo>
                  <a:cubicBezTo>
                    <a:pt x="82" y="43"/>
                    <a:pt x="78" y="81"/>
                    <a:pt x="61" y="105"/>
                  </a:cubicBezTo>
                  <a:cubicBezTo>
                    <a:pt x="52" y="118"/>
                    <a:pt x="20" y="112"/>
                    <a:pt x="13" y="97"/>
                  </a:cubicBezTo>
                  <a:cubicBezTo>
                    <a:pt x="0" y="71"/>
                    <a:pt x="13" y="38"/>
                    <a:pt x="13" y="9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187280" y="2421000"/>
            <a:ext cx="246240" cy="168120"/>
          </a:xfrm>
          <a:custGeom>
            <a:avLst/>
            <a:gdLst/>
            <a:ahLst/>
            <a:rect l="l" t="t" r="r" b="b"/>
            <a:pathLst>
              <a:path w="181" h="154">
                <a:moveTo>
                  <a:pt x="16" y="150"/>
                </a:moveTo>
                <a:cubicBezTo>
                  <a:pt x="37" y="147"/>
                  <a:pt x="63" y="154"/>
                  <a:pt x="80" y="142"/>
                </a:cubicBezTo>
                <a:cubicBezTo>
                  <a:pt x="105" y="124"/>
                  <a:pt x="50" y="96"/>
                  <a:pt x="48" y="94"/>
                </a:cubicBezTo>
                <a:cubicBezTo>
                  <a:pt x="66" y="40"/>
                  <a:pt x="66" y="45"/>
                  <a:pt x="128" y="54"/>
                </a:cubicBezTo>
                <a:cubicBezTo>
                  <a:pt x="136" y="59"/>
                  <a:pt x="143" y="72"/>
                  <a:pt x="152" y="70"/>
                </a:cubicBezTo>
                <a:cubicBezTo>
                  <a:pt x="181" y="64"/>
                  <a:pt x="163" y="24"/>
                  <a:pt x="160" y="14"/>
                </a:cubicBezTo>
                <a:cubicBezTo>
                  <a:pt x="0" y="24"/>
                  <a:pt x="16" y="0"/>
                  <a:pt x="16" y="15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2492280"/>
            <a:ext cx="215640" cy="1447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421000"/>
            <a:ext cx="245880" cy="168120"/>
          </a:xfrm>
          <a:custGeom>
            <a:avLst/>
            <a:gdLst/>
            <a:ahLst/>
            <a:rect l="l" t="t" r="r" b="b"/>
            <a:pathLst>
              <a:path w="181" h="154">
                <a:moveTo>
                  <a:pt x="16" y="150"/>
                </a:moveTo>
                <a:cubicBezTo>
                  <a:pt x="37" y="147"/>
                  <a:pt x="63" y="154"/>
                  <a:pt x="80" y="142"/>
                </a:cubicBezTo>
                <a:cubicBezTo>
                  <a:pt x="105" y="124"/>
                  <a:pt x="50" y="96"/>
                  <a:pt x="48" y="94"/>
                </a:cubicBezTo>
                <a:cubicBezTo>
                  <a:pt x="66" y="40"/>
                  <a:pt x="66" y="45"/>
                  <a:pt x="128" y="54"/>
                </a:cubicBezTo>
                <a:cubicBezTo>
                  <a:pt x="136" y="59"/>
                  <a:pt x="143" y="72"/>
                  <a:pt x="152" y="70"/>
                </a:cubicBezTo>
                <a:cubicBezTo>
                  <a:pt x="181" y="64"/>
                  <a:pt x="163" y="24"/>
                  <a:pt x="160" y="14"/>
                </a:cubicBezTo>
                <a:cubicBezTo>
                  <a:pt x="0" y="24"/>
                  <a:pt x="16" y="0"/>
                  <a:pt x="16" y="15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421000"/>
            <a:ext cx="384480" cy="71280"/>
          </a:xfrm>
          <a:custGeom>
            <a:avLst/>
            <a:gdLst/>
            <a:ahLst/>
            <a:rect l="l" t="t" r="r" b="b"/>
            <a:pathLst>
              <a:path w="242" h="45">
                <a:moveTo>
                  <a:pt x="0" y="0"/>
                </a:moveTo>
                <a:cubicBezTo>
                  <a:pt x="26" y="22"/>
                  <a:pt x="53" y="45"/>
                  <a:pt x="91" y="45"/>
                </a:cubicBezTo>
                <a:cubicBezTo>
                  <a:pt x="129" y="45"/>
                  <a:pt x="212" y="0"/>
                  <a:pt x="227" y="0"/>
                </a:cubicBezTo>
                <a:cubicBezTo>
                  <a:pt x="242" y="0"/>
                  <a:pt x="212" y="22"/>
                  <a:pt x="182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386064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386064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63640" y="378936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280" y="4292640"/>
            <a:ext cx="2019240" cy="595440"/>
          </a:xfrm>
          <a:custGeom>
            <a:avLst/>
            <a:gdLst/>
            <a:ahLst/>
            <a:rect l="l" t="t" r="r" b="b"/>
            <a:pathLst>
              <a:path w="1272" h="375">
                <a:moveTo>
                  <a:pt x="0" y="80"/>
                </a:moveTo>
                <a:cubicBezTo>
                  <a:pt x="11" y="83"/>
                  <a:pt x="21" y="85"/>
                  <a:pt x="32" y="88"/>
                </a:cubicBezTo>
                <a:cubicBezTo>
                  <a:pt x="48" y="93"/>
                  <a:pt x="80" y="104"/>
                  <a:pt x="80" y="104"/>
                </a:cubicBezTo>
                <a:cubicBezTo>
                  <a:pt x="83" y="112"/>
                  <a:pt x="81" y="123"/>
                  <a:pt x="88" y="128"/>
                </a:cubicBezTo>
                <a:cubicBezTo>
                  <a:pt x="102" y="138"/>
                  <a:pt x="120" y="139"/>
                  <a:pt x="136" y="144"/>
                </a:cubicBezTo>
                <a:cubicBezTo>
                  <a:pt x="161" y="152"/>
                  <a:pt x="214" y="188"/>
                  <a:pt x="232" y="200"/>
                </a:cubicBezTo>
                <a:cubicBezTo>
                  <a:pt x="239" y="205"/>
                  <a:pt x="249" y="204"/>
                  <a:pt x="256" y="208"/>
                </a:cubicBezTo>
                <a:cubicBezTo>
                  <a:pt x="273" y="217"/>
                  <a:pt x="304" y="240"/>
                  <a:pt x="304" y="240"/>
                </a:cubicBezTo>
                <a:cubicBezTo>
                  <a:pt x="394" y="375"/>
                  <a:pt x="430" y="306"/>
                  <a:pt x="680" y="312"/>
                </a:cubicBezTo>
                <a:cubicBezTo>
                  <a:pt x="779" y="309"/>
                  <a:pt x="879" y="321"/>
                  <a:pt x="976" y="304"/>
                </a:cubicBezTo>
                <a:cubicBezTo>
                  <a:pt x="993" y="301"/>
                  <a:pt x="987" y="272"/>
                  <a:pt x="992" y="256"/>
                </a:cubicBezTo>
                <a:cubicBezTo>
                  <a:pt x="1004" y="221"/>
                  <a:pt x="998" y="211"/>
                  <a:pt x="1032" y="200"/>
                </a:cubicBezTo>
                <a:cubicBezTo>
                  <a:pt x="1059" y="160"/>
                  <a:pt x="1040" y="181"/>
                  <a:pt x="1096" y="144"/>
                </a:cubicBezTo>
                <a:cubicBezTo>
                  <a:pt x="1104" y="139"/>
                  <a:pt x="1120" y="128"/>
                  <a:pt x="1120" y="128"/>
                </a:cubicBezTo>
                <a:cubicBezTo>
                  <a:pt x="1125" y="120"/>
                  <a:pt x="1129" y="110"/>
                  <a:pt x="1136" y="104"/>
                </a:cubicBezTo>
                <a:cubicBezTo>
                  <a:pt x="1150" y="91"/>
                  <a:pt x="1184" y="72"/>
                  <a:pt x="1184" y="72"/>
                </a:cubicBezTo>
                <a:cubicBezTo>
                  <a:pt x="1227" y="8"/>
                  <a:pt x="1171" y="85"/>
                  <a:pt x="1224" y="32"/>
                </a:cubicBezTo>
                <a:cubicBezTo>
                  <a:pt x="1244" y="12"/>
                  <a:pt x="1240" y="0"/>
                  <a:pt x="12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4653000"/>
            <a:ext cx="2019240" cy="595440"/>
          </a:xfrm>
          <a:custGeom>
            <a:avLst/>
            <a:gdLst/>
            <a:ahLst/>
            <a:rect l="l" t="t" r="r" b="b"/>
            <a:pathLst>
              <a:path w="1272" h="375">
                <a:moveTo>
                  <a:pt x="0" y="80"/>
                </a:moveTo>
                <a:cubicBezTo>
                  <a:pt x="11" y="83"/>
                  <a:pt x="21" y="85"/>
                  <a:pt x="32" y="88"/>
                </a:cubicBezTo>
                <a:cubicBezTo>
                  <a:pt x="48" y="93"/>
                  <a:pt x="80" y="104"/>
                  <a:pt x="80" y="104"/>
                </a:cubicBezTo>
                <a:cubicBezTo>
                  <a:pt x="83" y="112"/>
                  <a:pt x="81" y="123"/>
                  <a:pt x="88" y="128"/>
                </a:cubicBezTo>
                <a:cubicBezTo>
                  <a:pt x="102" y="138"/>
                  <a:pt x="120" y="139"/>
                  <a:pt x="136" y="144"/>
                </a:cubicBezTo>
                <a:cubicBezTo>
                  <a:pt x="161" y="152"/>
                  <a:pt x="214" y="188"/>
                  <a:pt x="232" y="200"/>
                </a:cubicBezTo>
                <a:cubicBezTo>
                  <a:pt x="239" y="205"/>
                  <a:pt x="249" y="204"/>
                  <a:pt x="256" y="208"/>
                </a:cubicBezTo>
                <a:cubicBezTo>
                  <a:pt x="273" y="217"/>
                  <a:pt x="304" y="240"/>
                  <a:pt x="304" y="240"/>
                </a:cubicBezTo>
                <a:cubicBezTo>
                  <a:pt x="394" y="375"/>
                  <a:pt x="430" y="306"/>
                  <a:pt x="680" y="312"/>
                </a:cubicBezTo>
                <a:cubicBezTo>
                  <a:pt x="779" y="309"/>
                  <a:pt x="879" y="321"/>
                  <a:pt x="976" y="304"/>
                </a:cubicBezTo>
                <a:cubicBezTo>
                  <a:pt x="993" y="301"/>
                  <a:pt x="987" y="272"/>
                  <a:pt x="992" y="256"/>
                </a:cubicBezTo>
                <a:cubicBezTo>
                  <a:pt x="1004" y="221"/>
                  <a:pt x="998" y="211"/>
                  <a:pt x="1032" y="200"/>
                </a:cubicBezTo>
                <a:cubicBezTo>
                  <a:pt x="1059" y="160"/>
                  <a:pt x="1040" y="181"/>
                  <a:pt x="1096" y="144"/>
                </a:cubicBezTo>
                <a:cubicBezTo>
                  <a:pt x="1104" y="139"/>
                  <a:pt x="1120" y="128"/>
                  <a:pt x="1120" y="128"/>
                </a:cubicBezTo>
                <a:cubicBezTo>
                  <a:pt x="1125" y="120"/>
                  <a:pt x="1129" y="110"/>
                  <a:pt x="1136" y="104"/>
                </a:cubicBezTo>
                <a:cubicBezTo>
                  <a:pt x="1150" y="91"/>
                  <a:pt x="1184" y="72"/>
                  <a:pt x="1184" y="72"/>
                </a:cubicBezTo>
                <a:cubicBezTo>
                  <a:pt x="1227" y="8"/>
                  <a:pt x="1171" y="85"/>
                  <a:pt x="1224" y="32"/>
                </a:cubicBezTo>
                <a:cubicBezTo>
                  <a:pt x="1244" y="12"/>
                  <a:pt x="1240" y="0"/>
                  <a:pt x="12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5084640"/>
            <a:ext cx="2019600" cy="524160"/>
          </a:xfrm>
          <a:custGeom>
            <a:avLst/>
            <a:gdLst/>
            <a:ahLst/>
            <a:rect l="l" t="t" r="r" b="b"/>
            <a:pathLst>
              <a:path w="1272" h="375">
                <a:moveTo>
                  <a:pt x="0" y="80"/>
                </a:moveTo>
                <a:cubicBezTo>
                  <a:pt x="11" y="83"/>
                  <a:pt x="21" y="85"/>
                  <a:pt x="32" y="88"/>
                </a:cubicBezTo>
                <a:cubicBezTo>
                  <a:pt x="48" y="93"/>
                  <a:pt x="80" y="104"/>
                  <a:pt x="80" y="104"/>
                </a:cubicBezTo>
                <a:cubicBezTo>
                  <a:pt x="83" y="112"/>
                  <a:pt x="81" y="123"/>
                  <a:pt x="88" y="128"/>
                </a:cubicBezTo>
                <a:cubicBezTo>
                  <a:pt x="102" y="138"/>
                  <a:pt x="120" y="139"/>
                  <a:pt x="136" y="144"/>
                </a:cubicBezTo>
                <a:cubicBezTo>
                  <a:pt x="161" y="152"/>
                  <a:pt x="214" y="188"/>
                  <a:pt x="232" y="200"/>
                </a:cubicBezTo>
                <a:cubicBezTo>
                  <a:pt x="239" y="205"/>
                  <a:pt x="249" y="204"/>
                  <a:pt x="256" y="208"/>
                </a:cubicBezTo>
                <a:cubicBezTo>
                  <a:pt x="273" y="217"/>
                  <a:pt x="304" y="240"/>
                  <a:pt x="304" y="240"/>
                </a:cubicBezTo>
                <a:cubicBezTo>
                  <a:pt x="394" y="375"/>
                  <a:pt x="430" y="306"/>
                  <a:pt x="680" y="312"/>
                </a:cubicBezTo>
                <a:cubicBezTo>
                  <a:pt x="779" y="309"/>
                  <a:pt x="879" y="321"/>
                  <a:pt x="976" y="304"/>
                </a:cubicBezTo>
                <a:cubicBezTo>
                  <a:pt x="993" y="301"/>
                  <a:pt x="987" y="272"/>
                  <a:pt x="992" y="256"/>
                </a:cubicBezTo>
                <a:cubicBezTo>
                  <a:pt x="1004" y="221"/>
                  <a:pt x="998" y="211"/>
                  <a:pt x="1032" y="200"/>
                </a:cubicBezTo>
                <a:cubicBezTo>
                  <a:pt x="1059" y="160"/>
                  <a:pt x="1040" y="181"/>
                  <a:pt x="1096" y="144"/>
                </a:cubicBezTo>
                <a:cubicBezTo>
                  <a:pt x="1104" y="139"/>
                  <a:pt x="1120" y="128"/>
                  <a:pt x="1120" y="128"/>
                </a:cubicBezTo>
                <a:cubicBezTo>
                  <a:pt x="1125" y="120"/>
                  <a:pt x="1129" y="110"/>
                  <a:pt x="1136" y="104"/>
                </a:cubicBezTo>
                <a:cubicBezTo>
                  <a:pt x="1150" y="91"/>
                  <a:pt x="1184" y="72"/>
                  <a:pt x="1184" y="72"/>
                </a:cubicBezTo>
                <a:cubicBezTo>
                  <a:pt x="1227" y="8"/>
                  <a:pt x="1171" y="85"/>
                  <a:pt x="1224" y="32"/>
                </a:cubicBezTo>
                <a:cubicBezTo>
                  <a:pt x="1244" y="12"/>
                  <a:pt x="1240" y="0"/>
                  <a:pt x="12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834920" y="4149720"/>
            <a:ext cx="2592360" cy="71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4221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Press in the centr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56000" y="3141360"/>
            <a:ext cx="3456000" cy="718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8352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050920" y="4292640"/>
            <a:ext cx="217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5280" y="443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403280" y="429264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195280" y="4365360"/>
            <a:ext cx="1439640" cy="12222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5516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Use the arrow to move to the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24000" y="357336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640" y="35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 rot="10800000">
            <a:off x="755640" y="1915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torola L6 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484360" y="2925720"/>
            <a:ext cx="1224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162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record a video first select ‘Pictures’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ictures find the ‘Movie’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a90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‘video camera’ icon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rro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and then press the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bu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132000" y="2924280"/>
            <a:ext cx="3023640" cy="2088720"/>
            <a:chOff x="3132000" y="2924280"/>
            <a:chExt cx="3023640" cy="2088720"/>
          </a:xfrm>
        </p:grpSpPr>
        <p:sp>
          <p:nvSpPr>
            <p:cNvPr id="252" name=""/>
            <p:cNvSpPr/>
            <p:nvPr/>
          </p:nvSpPr>
          <p:spPr>
            <a:xfrm>
              <a:off x="3132000" y="3583080"/>
              <a:ext cx="2298240" cy="1429920"/>
            </a:xfrm>
            <a:prstGeom prst="rect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22800" y="3364920"/>
              <a:ext cx="847440" cy="218160"/>
            </a:xfrm>
            <a:prstGeom prst="rect">
              <a:avLst/>
            </a:prstGeom>
            <a:solidFill>
              <a:srgbClr val="6a90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37160" y="3803400"/>
              <a:ext cx="1330920" cy="988920"/>
            </a:xfrm>
            <a:prstGeom prst="rect">
              <a:avLst/>
            </a:prstGeom>
            <a:solidFill>
              <a:srgbClr val="e7fcfd"/>
            </a:solidFill>
            <a:ln w="9360">
              <a:solidFill>
                <a:srgbClr val="e7fcfd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32000" y="2924280"/>
              <a:ext cx="243000" cy="76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e1f2f3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32000" y="2924280"/>
              <a:ext cx="1453680" cy="22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e1f2f3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93120" y="3915000"/>
              <a:ext cx="362520" cy="77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53753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30240" y="4133160"/>
              <a:ext cx="362520" cy="32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e7fc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85680" y="3474360"/>
              <a:ext cx="362160" cy="108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55640" y="5300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when ready press &lt;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ap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…29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end via M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solidFill>
            <a:srgbClr val="6a90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inished press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if less than 29 sec’s. Use the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button and choose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2997360"/>
            <a:ext cx="3743640" cy="2663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40000" y="141300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5300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ard                                   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5734080"/>
            <a:ext cx="144720" cy="144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5734080"/>
            <a:ext cx="144360" cy="144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372000" y="5229360"/>
            <a:ext cx="1584360" cy="57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458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700360" y="5157720"/>
            <a:ext cx="1295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 your evidence to the Ass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a90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or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nd in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press &lt;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&lt;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nd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down using your downward arrow and search for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lympic Committ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ess in the centre but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to place a tick in the box next to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lympic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pres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&lt;send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select button underne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3640" y="5589720"/>
            <a:ext cx="144360" cy="144360"/>
          </a:xfrm>
          <a:prstGeom prst="ellipse">
            <a:avLst/>
          </a:prstGeom>
          <a:solidFill>
            <a:srgbClr val="d8d6d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 www.audioblogger.com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contacts ( this contact name will rin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0011 1415 856 0205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your primary telephone number when promp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15 166 6666 &lt;wait&gt; and &lt;press 1&gt; for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your 4 digit ID and then hash/pound ke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812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prompts to record a post.&lt;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your activit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selec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h/pound key when you finish you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prompts &lt;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ss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to send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ula’s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476360" y="40464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Third Way is posting via phone to </a:t>
            </a: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Audioblogg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b 2.0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79280" y="189000"/>
            <a:ext cx="1656000" cy="790560"/>
            <a:chOff x="179280" y="189000"/>
            <a:chExt cx="1656000" cy="790560"/>
          </a:xfrm>
        </p:grpSpPr>
        <p:sp>
          <p:nvSpPr>
            <p:cNvPr id="278" name=""/>
            <p:cNvSpPr/>
            <p:nvPr/>
          </p:nvSpPr>
          <p:spPr>
            <a:xfrm>
              <a:off x="1187280" y="189000"/>
              <a:ext cx="64800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4000" y="189000"/>
              <a:ext cx="64800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1640" y="40500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280" y="189000"/>
              <a:ext cx="64764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560" y="405000"/>
              <a:ext cx="64800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285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71640" y="333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mpic Games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5300640"/>
            <a:ext cx="309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55640" y="2492280"/>
            <a:ext cx="79930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MS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four steps you would perform in an incident involv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rains, bruises and strains as a result of a massive crowd crush 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lympic sta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 your response and send via MMS to t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lympic Committee or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297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771640" y="333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mpic Games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5300640"/>
            <a:ext cx="309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39640" y="2060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you  back in 20 minute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es" descr=""/>
          <p:cNvPicPr/>
          <p:nvPr/>
        </p:nvPicPr>
        <p:blipFill>
          <a:blip r:embed="rId2"/>
          <a:stretch/>
        </p:blipFill>
        <p:spPr>
          <a:xfrm>
            <a:off x="6877080" y="1628640"/>
            <a:ext cx="1781280" cy="1209960"/>
          </a:xfrm>
          <a:prstGeom prst="rect">
            <a:avLst/>
          </a:prstGeom>
          <a:ln w="0">
            <a:noFill/>
          </a:ln>
        </p:spPr>
      </p:pic>
      <p:pic>
        <p:nvPicPr>
          <p:cNvPr id="308" name="fi" descr=""/>
          <p:cNvPicPr/>
          <p:nvPr/>
        </p:nvPicPr>
        <p:blipFill>
          <a:blip r:embed="rId3"/>
          <a:stretch/>
        </p:blipFill>
        <p:spPr>
          <a:xfrm>
            <a:off x="6948360" y="3068640"/>
            <a:ext cx="1943280" cy="123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9" name="de" descr=""/>
          <p:cNvPicPr/>
          <p:nvPr/>
        </p:nvPicPr>
        <p:blipFill>
          <a:blip r:embed="rId4"/>
          <a:stretch/>
        </p:blipFill>
        <p:spPr>
          <a:xfrm>
            <a:off x="4572000" y="1773360"/>
            <a:ext cx="1944720" cy="1171440"/>
          </a:xfrm>
          <a:prstGeom prst="rect">
            <a:avLst/>
          </a:prstGeom>
          <a:ln w="0">
            <a:noFill/>
          </a:ln>
        </p:spPr>
      </p:pic>
      <p:pic>
        <p:nvPicPr>
          <p:cNvPr id="310" name="fr" descr=""/>
          <p:cNvPicPr/>
          <p:nvPr/>
        </p:nvPicPr>
        <p:blipFill>
          <a:blip r:embed="rId5"/>
          <a:stretch/>
        </p:blipFill>
        <p:spPr>
          <a:xfrm>
            <a:off x="4716360" y="342900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311" name="dk" descr=""/>
          <p:cNvPicPr/>
          <p:nvPr/>
        </p:nvPicPr>
        <p:blipFill>
          <a:blip r:embed="rId6"/>
          <a:stretch/>
        </p:blipFill>
        <p:spPr>
          <a:xfrm>
            <a:off x="4716360" y="4797360"/>
            <a:ext cx="17287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-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d" descr=""/>
          <p:cNvPicPr/>
          <p:nvPr/>
        </p:nvPicPr>
        <p:blipFill>
          <a:blip r:embed="rId7"/>
          <a:stretch/>
        </p:blipFill>
        <p:spPr>
          <a:xfrm>
            <a:off x="6877080" y="4653000"/>
            <a:ext cx="1798560" cy="12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it" descr=""/>
          <p:cNvPicPr/>
          <p:nvPr/>
        </p:nvPicPr>
        <p:blipFill>
          <a:blip r:embed="rId8"/>
          <a:stretch/>
        </p:blipFill>
        <p:spPr>
          <a:xfrm>
            <a:off x="2411280" y="2852640"/>
            <a:ext cx="1943280" cy="1295640"/>
          </a:xfrm>
          <a:prstGeom prst="rect">
            <a:avLst/>
          </a:prstGeom>
          <a:ln w="0">
            <a:noFill/>
          </a:ln>
        </p:spPr>
      </p:pic>
      <p:pic>
        <p:nvPicPr>
          <p:cNvPr id="315" name="pt" descr=""/>
          <p:cNvPicPr/>
          <p:nvPr/>
        </p:nvPicPr>
        <p:blipFill>
          <a:blip r:embed="rId9"/>
          <a:stretch/>
        </p:blipFill>
        <p:spPr>
          <a:xfrm>
            <a:off x="1979640" y="465300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316" name="nl" descr=""/>
          <p:cNvPicPr/>
          <p:nvPr/>
        </p:nvPicPr>
        <p:blipFill>
          <a:blip r:embed="rId10"/>
          <a:stretch/>
        </p:blipFill>
        <p:spPr>
          <a:xfrm>
            <a:off x="179280" y="2781360"/>
            <a:ext cx="1943280" cy="1295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28600" y="-10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-10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0400" y="40892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327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254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323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771640" y="333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mpic Games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5300640"/>
            <a:ext cx="309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55640" y="2205000"/>
            <a:ext cx="7632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within your group your views about using web 2.0 services especially for assessment in the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What do you see as the pros and cons of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evidence-based assessment using mobile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technology in the so called ‘connected era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5589720"/>
            <a:ext cx="698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sit Blogpl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www.symbian-freeware.com/download-blogplane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336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771640" y="333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mpic Games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9280" y="5300640"/>
            <a:ext cx="309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50920" y="1736640"/>
            <a:ext cx="889308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nnectivism, Constructivism and Behaviourism…that is the ques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are learning theories impacted when knowledge is no longer acquired in the linear mann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djustments need to be made with today’s learning theories when technologies performs many of the cognitive operations previously performed by learners (information storage and retrieva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can we as educators continue to stay current in a rapidly evolving information ecolo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evelopment of ePortfolios…is that the answ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se of Web 2.0 services to produce evidence-based assessment for continuing formal and informal learning in the work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63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771640" y="333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 Meets Olympic Game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263700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557360"/>
            <a:ext cx="8137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he aim of this workshop is to illustrate how Web 2.0 tools involving mobile devices can be used for evidence-based assessment in the work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he ‘</a:t>
            </a:r>
            <a:r>
              <a:rPr b="0" i="1" lang="en-AU" sz="2400" spc="-1" strike="noStrike">
                <a:solidFill>
                  <a:srgbClr val="000000"/>
                </a:solidFill>
                <a:latin typeface="Comic Sans MS"/>
              </a:rPr>
              <a:t>hypothetical’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orkplace - ‘</a:t>
            </a:r>
            <a:r>
              <a:rPr b="1" lang="en-AU" sz="2400" spc="-1" strike="noStrike">
                <a:solidFill>
                  <a:srgbClr val="990033"/>
                </a:solidFill>
                <a:latin typeface="Comic Sans MS"/>
              </a:rPr>
              <a:t>Olympic Games 2008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his interactive session will focus on the current theories of connectivism and constructivism in workplace lea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s practitioners should we be teaching students more on </a:t>
            </a:r>
            <a:r>
              <a:rPr b="0" lang="en-AU" sz="2400" spc="-1" strike="noStrike">
                <a:solidFill>
                  <a:srgbClr val="990033"/>
                </a:solidFill>
                <a:latin typeface="Comic Sans MS"/>
              </a:rPr>
              <a:t>‘how to learn’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rather than </a:t>
            </a:r>
            <a:r>
              <a:rPr b="0" lang="en-AU" sz="2400" spc="-1" strike="noStrike">
                <a:solidFill>
                  <a:srgbClr val="990033"/>
                </a:solidFill>
                <a:latin typeface="Comic Sans MS"/>
              </a:rPr>
              <a:t>‘what to learn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’?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Image Preview"/>
          <p:cNvPicPr/>
          <p:nvPr/>
        </p:nvPicPr>
        <p:blipFill>
          <a:blip r:embed="rId1"/>
          <a:stretch/>
        </p:blipFill>
        <p:spPr>
          <a:xfrm>
            <a:off x="7093080" y="260280"/>
            <a:ext cx="20509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787400" y="2130480"/>
            <a:ext cx="5569200" cy="3465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84360" y="57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phase.org/present/aera021pp.pd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 Surry’s ‘Ripples Mode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495440" y="2608200"/>
            <a:ext cx="6153120" cy="25084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niel Surry’s ‘Ripples Mode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 Surry’s ‘Ripples Mode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152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 Surry’s ‘Ripples Mode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314360" y="1776240"/>
            <a:ext cx="651348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75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484360" y="54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 Meets Olympic Game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916280"/>
            <a:ext cx="8820000" cy="36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elco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ind Your Languag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witch on the Games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n this interactive workshop we will demonstrate how </a:t>
            </a:r>
            <a:r>
              <a:rPr b="0" lang="en-AU" sz="2400" spc="-1" strike="noStrike">
                <a:solidFill>
                  <a:srgbClr val="333399"/>
                </a:solidFill>
                <a:latin typeface="Comic Sans MS"/>
              </a:rPr>
              <a:t>mlearning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technology using 3G Motorola phones can be used for evidence- based assessment in the work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300640"/>
            <a:ext cx="309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orkshop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workshop will demonstrate innovation in workplace learning. Participants will pretend to be volunteers training for the Olympic Games in 2008 Beij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s will break into groups of three called ‘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lympic teams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am will be allocated a country which they will represent as an Olympic volunteer at the 2008 Beijing Ga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3G Motorola mobile phone will be allocated to each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ach team will have the same competency which will be a simple language translation activity in the allocated country that they are represen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This activity will be completed by each team and using web 2.0 services will be MMS on the 3G phone  to the Olympic Committee for assess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 Meets Olympic Game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88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97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195640" y="404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 Meets Olympic Games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263700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1628640"/>
            <a:ext cx="882036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Comic Sans MS"/>
                <a:ea typeface="SimSun"/>
              </a:rPr>
              <a:t>Learning Activity</a:t>
            </a:r>
            <a:r>
              <a:rPr b="0" lang="en-AU" sz="2400" spc="-1" strike="noStrike">
                <a:solidFill>
                  <a:srgbClr val="333399"/>
                </a:solidFill>
                <a:latin typeface="Comic Sans MS"/>
                <a:ea typeface="SimSun"/>
              </a:rPr>
              <a:t>: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AU" sz="2400" spc="-1" strike="noStrike">
                <a:solidFill>
                  <a:srgbClr val="990033"/>
                </a:solidFill>
                <a:latin typeface="Comic Sans MS"/>
                <a:ea typeface="SimSun"/>
              </a:rPr>
              <a:t>‘Switched on in the workplace’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You will go to the </a:t>
            </a:r>
            <a:r>
              <a:rPr b="0" lang="en-AU" sz="1600" spc="-1" strike="noStrike">
                <a:solidFill>
                  <a:srgbClr val="990033"/>
                </a:solidFill>
                <a:latin typeface="Comic Sans MS"/>
                <a:ea typeface="SimSun"/>
              </a:rPr>
              <a:t>Olympic Stadium</a:t>
            </a: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to the starting blocks situated at the back of the room Building 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Look for the large </a:t>
            </a:r>
            <a:r>
              <a:rPr b="0" lang="en-AU" sz="1600" spc="-1" strike="noStrike">
                <a:solidFill>
                  <a:srgbClr val="990033"/>
                </a:solidFill>
                <a:latin typeface="Comic Sans MS"/>
                <a:ea typeface="SimSun"/>
              </a:rPr>
              <a:t>Olympic torch</a:t>
            </a: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which will contain a stand with six different countries’ flags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Each designated team will go to the flag representing their country to find an envelope which contains a translation of their activity. This is to be read out and voice messaged by the team and sent to the Olympic email using the Motorola 3G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After 20 mins the Olympic Committee (presenters) will then go online to OTEN learning support site and view the evidence from you ( volunte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In conclusion, the groups will discuss the pros and cons of evidence-based assessing using mobile technology as new and emerging benefits in teaching and learning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 Meets Olympic Game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109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0920" y="1484280"/>
            <a:ext cx="8642160" cy="49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elive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hat is happe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activity question will be SMS to the participants by the presenter in English to each team’s phone which is to be responded back in a foreign language to the presen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explained a translation card for this activity will be found under your designated country’s flag as each team will be representing a different Nation. (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A  handout identifying flags of the world will be given out for those who are unsure what country’s flag they are represen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ow to resp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ing the phone provided one member of the team will record the evidence of the second colleague translating the assessment task involving a simple first aid incident. The third colleague will MMS the team’s assessment to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Olympic Committe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asse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ex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Teams will return to the workshop to review their assessment and discuss the interactive learning activity of using mobile phones for evidence-based assess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060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Image Preview"/>
          <p:cNvPicPr/>
          <p:nvPr/>
        </p:nvPicPr>
        <p:blipFill>
          <a:blip r:embed="rId2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75282"/>
          <a:stretch/>
        </p:blipFill>
        <p:spPr>
          <a:xfrm>
            <a:off x="0" y="6472080"/>
            <a:ext cx="2627280" cy="385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12536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 Meets Olympic Game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121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06064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5300640"/>
            <a:ext cx="309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395280" y="2421000"/>
          <a:ext cx="8280360" cy="4014720"/>
        </p:xfrm>
        <a:graphic>
          <a:graphicData uri="http://schemas.openxmlformats.org/drawingml/2006/table">
            <a:tbl>
              <a:tblPr/>
              <a:tblGrid>
                <a:gridCol w="4010040"/>
                <a:gridCol w="4270320"/>
              </a:tblGrid>
              <a:tr h="286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9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9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689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monstrate how to complete a senior first aid activity in a foreign language to qualify as an Olympic volunteer for 200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9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89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689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omic Sans MS"/>
                          <a:ea typeface="SimSun"/>
                        </a:rPr>
                        <a:t>Demonstrate how to capture and send the assessment using a mobile 3G phone to the Olympic Committ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990033"/>
                          </a:solidFill>
                          <a:latin typeface="Comic Sans MS"/>
                          <a:ea typeface="Times New Roman"/>
                        </a:rPr>
                        <a:t>Presenter(s) will </a:t>
                      </a:r>
                      <a:r>
                        <a:rPr b="1" lang="en-AU" sz="1400" spc="-1" strike="noStrike" u="sng">
                          <a:solidFill>
                            <a:srgbClr val="333399"/>
                          </a:solidFill>
                          <a:uFillTx/>
                          <a:latin typeface="Comic Sans MS"/>
                          <a:ea typeface="Times New Roman"/>
                        </a:rPr>
                        <a:t>demonstrate </a:t>
                      </a:r>
                      <a:r>
                        <a:rPr b="0" lang="en-AU" sz="1400" spc="-1" strike="noStrike">
                          <a:solidFill>
                            <a:srgbClr val="990033"/>
                          </a:solidFill>
                          <a:latin typeface="Comic Sans MS"/>
                          <a:ea typeface="Times New Roman"/>
                        </a:rPr>
                        <a:t>the following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Comic Sans MS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How as an Olympic volunteer you would respond using the RICE technique to an injured spectator suffering from suspected bruises and sprain from a massive crowd crush at the Olympic Stadium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Comic Sans MS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333399"/>
                          </a:solidFill>
                          <a:latin typeface="Comic Sans MS"/>
                          <a:ea typeface="SimSun"/>
                        </a:rPr>
                        <a:t>How to respond to the Olympic Committee in a language other than English to complete one unit of competency of the Senior First Aid Course for the Beijing Ga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Comic Sans MS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333399"/>
                          </a:solidFill>
                          <a:latin typeface="Comic Sans MS"/>
                          <a:ea typeface="SimSun"/>
                        </a:rPr>
                        <a:t>How to record the evidence using a 3G handset Motorola prepaid ph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Comic Sans MS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333399"/>
                          </a:solidFill>
                          <a:latin typeface="Comic Sans MS"/>
                          <a:ea typeface="SimSun"/>
                        </a:rPr>
                        <a:t>How to MMS the assessment to the Olympic Games website as evidence in the work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ams will complete the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active Session    20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cuss the action learning activity as to the pros and cons for T&amp;L regarding evidence-based assess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 &amp;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view Session         15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24000" y="1484280"/>
            <a:ext cx="842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Outcome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To be able to successfully complete a unit of competency in the workplace and send this as evidence of your assessment to the assessor using a mobile de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 Meets Olympic Game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134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5300640"/>
            <a:ext cx="309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58920" y="2349360"/>
            <a:ext cx="6913440" cy="3766320"/>
          </a:xfrm>
          <a:prstGeom prst="rect">
            <a:avLst/>
          </a:prstGeom>
          <a:solidFill>
            <a:srgbClr val="6a9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ruises, Sprains and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these steps: 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ICE Techn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 the injured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covered in cloth to injury for 2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PRESSION band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ATE the injured part (unless fracture sus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700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ior First Aid - Unit of Compe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3789360"/>
            <a:ext cx="799308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de4b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 Meets Olympic Game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8360" y="260280"/>
            <a:ext cx="1655280" cy="790560"/>
            <a:chOff x="468360" y="260280"/>
            <a:chExt cx="1655280" cy="790560"/>
          </a:xfrm>
        </p:grpSpPr>
        <p:sp>
          <p:nvSpPr>
            <p:cNvPr id="147" name=""/>
            <p:cNvSpPr/>
            <p:nvPr/>
          </p:nvSpPr>
          <p:spPr>
            <a:xfrm>
              <a:off x="147600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72720" y="260280"/>
              <a:ext cx="647640" cy="5749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60360" y="476280"/>
              <a:ext cx="64728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360" y="260280"/>
              <a:ext cx="647280" cy="57492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5280" y="476280"/>
              <a:ext cx="647640" cy="57456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1052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EN TAFE NSW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5300640"/>
            <a:ext cx="309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Image Preview"/>
          <p:cNvPicPr/>
          <p:nvPr/>
        </p:nvPicPr>
        <p:blipFill>
          <a:blip r:embed="rId1"/>
          <a:stretch/>
        </p:blipFill>
        <p:spPr>
          <a:xfrm>
            <a:off x="7093080" y="333360"/>
            <a:ext cx="2050920" cy="876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9640" y="1700280"/>
            <a:ext cx="7993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MS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four steps you would perform in an incident involv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rains, bruises and strains as a result of a massive crowd crush 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lympic sta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an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le sig med beska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 pakke paa kvaelse for 20 minu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mpression forbinding fasthed og st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efte det beska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812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58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06:34:08Z</dcterms:created>
  <dc:creator>pwilliams70</dc:creator>
  <dc:description/>
  <dc:language>en-US</dc:language>
  <cp:lastModifiedBy>pwilliams70</cp:lastModifiedBy>
  <dcterms:modified xsi:type="dcterms:W3CDTF">2006-09-14T22:49:03Z</dcterms:modified>
  <cp:revision>68</cp:revision>
  <dc:subject/>
  <dc:title>Slide 1</dc:title>
</cp:coreProperties>
</file>